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FB3C-0BCB-4341-94DE-B1DBF1D21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57A5-44DA-453F-9EC1-76F3B390D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2730-7E91-4026-AF5B-006C58321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6EB9-CE9F-4B35-8625-4B472079A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84F6-5C2E-424D-A2BA-6A95FB504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0FF4-26C1-4F1E-8694-8F98B620A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E2CA-E55D-410D-AB69-BCBE219D9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D761-02C2-4861-B636-5A8F39FEC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98D6-9BCC-477F-B1C1-3D56820E3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00B3-F4C2-449B-A14F-68F807C10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A3FC-340F-47F2-A7A1-327F619FE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5CCB-5AA0-4612-A6AF-6757EF1DB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BFA1-33DB-402D-B907-69AE206D2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8B01-5FB5-401D-A607-819974D3D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B0D0-78F3-4968-B968-FC64DA59C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5F9B-40F4-4053-A45B-22E917FA4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1681-1CAF-4F7D-8AB5-31A52D6CA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2F20-00EF-4A56-A04C-FD17D6379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B207-9D42-4807-8710-4833E3B23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00E9-2078-4210-8AF7-1D3E1A53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D51A-2234-4C4B-93E8-A72FE8F8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0A00-EE97-409F-BDBE-16C9A62A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88BD-EB48-4B1C-9F00-B87F2A2C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9FA7-E89E-4370-B4DC-2B52F4A8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03D5-9EE7-4543-A715-13708ED6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B4CC-802C-4329-8356-0290E863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5874-9855-4CF6-8C7D-C68B4142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8E48-CC0D-4E4A-A3EE-72FBF6CF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8D3-97B8-4288-AB1B-EF715320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1CE6-47BD-460C-95B3-0A765C02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7E76-6AE6-423F-83C9-480C80ED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BB13-E24D-4E60-A292-D5CCBCF34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оборудования, используемого в микробиологической лабора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6283-BB79-47E0-9FBC-18CE8103F38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AC9E-E24B-472C-AEF1-657494D5BA2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рудова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б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ируйте температуру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оста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одиль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зильных камер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йте рабо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х пип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кл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ов и измерительных 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868B-A7B3-47A5-B016-3E3BCE7F0D8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44792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44792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7619-15AD-4F54-83D5-E9BE24F6E0D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ери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414480" y="1219320"/>
            <a:ext cx="201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ер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553080" y="4660920"/>
            <a:ext cx="220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Безопас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ходы, готовые к уда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33520" y="121932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иготовление с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utoclave1"/>
          <p:cNvPicPr/>
          <p:nvPr/>
        </p:nvPicPr>
        <p:blipFill>
          <a:blip r:embed="rId1"/>
          <a:stretch/>
        </p:blipFill>
        <p:spPr>
          <a:xfrm>
            <a:off x="342900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7"/>
          <p:cNvSpPr/>
          <p:nvPr/>
        </p:nvSpPr>
        <p:spPr>
          <a:xfrm>
            <a:off x="3429000" y="1676520"/>
            <a:ext cx="2590920" cy="83808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28600" y="4952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нтаминированные от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3429000" y="5181480"/>
            <a:ext cx="2590920" cy="83844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A5B4-6770-4ED0-B966-236280DCD61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ухэтапны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ктериолог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стерильности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6AD3-21F2-41A7-99DD-4DFACAE91DC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2472-650E-4E57-9CE6-92BA8B7C906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8862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и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 соответствует требуемой для стери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веряют время и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Би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, время и давление соответствуют требуемым для стер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33520" y="4419720"/>
            <a:ext cx="8153280" cy="2047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Имейте в виду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и один из индикаторов не гарантирует стерилизацию, если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втоклав перегру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Объем сред слишком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7F4C-38EF-4664-A045-8B5612C9F30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рнал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8E75-5B75-4B7E-B968-B6D4A2C066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ско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3049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733920" y="1295280"/>
            <a:ext cx="5181480" cy="5029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одержите линзы в чист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мейте по крайней мере один иммерсионный объектив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спользуйте подпружине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е допускайте попадания масла на не иммерсио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ледите за тем, чтобы образец не оказался выше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линзы объ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 Narrow"/>
              </a:rPr>
              <a:t>Поддерживайте равномерное освещение (освещение по Кел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Olga</cp:lastModifiedBy>
  <dcterms:modified xsi:type="dcterms:W3CDTF">2013-05-08T12:35:27Z</dcterms:modified>
  <cp:revision>40</cp:revision>
  <dc:subject/>
  <dc:title>Slide 1</dc:title>
</cp:coreProperties>
</file>